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79000" y="694800"/>
            <a:ext cx="465156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3BCB21F1-EB65-4140-9BFE-961EDC3DC4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D1D94238-2EF7-44C6-859A-138C124F7A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257D585B-C9E4-474F-871D-9B07A74782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01631BE3-0F1C-4D73-96E3-C6D8FBA3B4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37C5C911-DE24-4448-B5B8-536E48C4FD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9B23C0DA-7BC6-4F20-ACFE-8F3FFD89620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9360" y="695160"/>
            <a:ext cx="4651560" cy="3489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D1F8B261-D3B9-4314-A2D4-2374279C61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837720"/>
            <a:chOff x="0" y="0"/>
            <a:chExt cx="9143640" cy="8377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3640" cy="8377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3640" cy="8377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5" descr="gov fede"/>
          <p:cNvPicPr/>
          <p:nvPr/>
        </p:nvPicPr>
        <p:blipFill>
          <a:blip r:embed="rId2"/>
          <a:stretch/>
        </p:blipFill>
        <p:spPr>
          <a:xfrm>
            <a:off x="7543800" y="222120"/>
            <a:ext cx="1295280" cy="46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Logo PREV power"/>
          <p:cNvPicPr/>
          <p:nvPr/>
        </p:nvPicPr>
        <p:blipFill>
          <a:blip r:embed="rId3"/>
          <a:stretch/>
        </p:blipFill>
        <p:spPr>
          <a:xfrm>
            <a:off x="152280" y="76320"/>
            <a:ext cx="990720" cy="6807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7"/>
          <p:cNvGrpSpPr/>
          <p:nvPr/>
        </p:nvGrpSpPr>
        <p:grpSpPr>
          <a:xfrm>
            <a:off x="0" y="0"/>
            <a:ext cx="9143640" cy="837720"/>
            <a:chOff x="0" y="0"/>
            <a:chExt cx="9143640" cy="837720"/>
          </a:xfrm>
        </p:grpSpPr>
        <p:sp>
          <p:nvSpPr>
            <p:cNvPr id="6" name="Rectangle 8"/>
            <p:cNvSpPr/>
            <p:nvPr/>
          </p:nvSpPr>
          <p:spPr>
            <a:xfrm>
              <a:off x="0" y="0"/>
              <a:ext cx="9143640" cy="8377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0"/>
              <a:ext cx="9143640" cy="8377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1" descr="Logo PREV power"/>
          <p:cNvPicPr/>
          <p:nvPr/>
        </p:nvPicPr>
        <p:blipFill>
          <a:blip r:embed="rId4"/>
          <a:stretch/>
        </p:blipFill>
        <p:spPr>
          <a:xfrm>
            <a:off x="152280" y="76320"/>
            <a:ext cx="990720" cy="680760"/>
          </a:xfrm>
          <a:prstGeom prst="rect">
            <a:avLst/>
          </a:prstGeom>
          <a:ln w="0">
            <a:noFill/>
          </a:ln>
        </p:spPr>
      </p:pic>
      <p:sp>
        <p:nvSpPr>
          <p:cNvPr id="9" name="Text Box 12"/>
          <p:cNvSpPr/>
          <p:nvPr/>
        </p:nvSpPr>
        <p:spPr>
          <a:xfrm>
            <a:off x="1332000" y="889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-Geral de Política de Seguro Contra Acidentes do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lacionamento Interinstitucional  - CGSAT/DPSSO/SPPS/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"/>
          <p:cNvSpPr/>
          <p:nvPr/>
        </p:nvSpPr>
        <p:spPr>
          <a:xfrm>
            <a:off x="108000" y="1413000"/>
            <a:ext cx="889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d"/>
                </a:solidFill>
                <a:latin typeface="Arial"/>
              </a:rPr>
              <a:t>PROPOSTAS DE  ALTERAÇÕES 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d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cd"/>
                </a:solidFill>
                <a:latin typeface="Arial"/>
              </a:rPr>
              <a:t>FATOR ACIDENTÁRIO DE PREVENÇÃO - F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d"/>
                </a:solidFill>
                <a:latin typeface="Arial"/>
              </a:rPr>
              <a:t>HISTÓRICO DAS DISCUSSÕES NO CNPS EM 20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1"/>
          <p:cNvSpPr/>
          <p:nvPr/>
        </p:nvSpPr>
        <p:spPr>
          <a:xfrm>
            <a:off x="228600" y="907920"/>
            <a:ext cx="8891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/10/2014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0 ª REUNIÃO ORDIN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resentação das Propo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Cálculo do FAP por Empresa X por Estabel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s acidentes de trabalho sem concessão de benefí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s acidentes de tra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 bloqueio de bonificação em caso de morte ou de invali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a redução de 25% do FAP calculado na faixa </a:t>
            </a:r>
            <a:r>
              <a:rPr b="1" i="1" lang="pt-BR" sz="1800" spc="-1" strike="noStrike">
                <a:solidFill>
                  <a:srgbClr val="7030a0"/>
                </a:solidFill>
                <a:latin typeface="Arial"/>
              </a:rPr>
              <a:t>ma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 bloqueio de bonificação em caso de taxa média de rotatividade maior que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1"/>
          <p:cNvSpPr/>
          <p:nvPr/>
        </p:nvSpPr>
        <p:spPr>
          <a:xfrm>
            <a:off x="252360" y="907920"/>
            <a:ext cx="8891640" cy="70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/10/2014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0 ª REUNIÃO ORDIN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tituição de um Grupo de Trabalho Quadripar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alização de 03 reuniões do GT: 05, 12 e 20 de novem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ticipação de representantes do M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órum das Centrais Sindicais em 10/11/2014 - São Pa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união do Coletivo Nacional de Saúde do Trabalhador - CUT Nacional em 02/12/2014 – São Pa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inário sobre FAP e SAT - Impactos Sociais e o Papel do Movimento Sindical – Força Sindical em 11/02/2015 – São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1"/>
          <p:cNvSpPr/>
          <p:nvPr/>
        </p:nvSpPr>
        <p:spPr>
          <a:xfrm>
            <a:off x="228600" y="907920"/>
            <a:ext cx="889164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7/11/2014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1ª REUNIÃO ORDIN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iscussão das Propostas e Apresentação de Pauta para Discussão em 20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STEMA BONUS x MALUS – F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S DE CUSTEIO DO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TINAÇÃO DA RECEITA DO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ÁLISE FINANCEIRA: RECEITA X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ÉTODO DE ATRIBUIÇÃO DO GRAU DE RISCO POR ATIVIDADE ECONÔMICA (TRIBUTAÇÃO COLETIVA) – Anexo V – Decreto nº 3.048, de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ângulo 1"/>
          <p:cNvSpPr/>
          <p:nvPr/>
        </p:nvSpPr>
        <p:spPr>
          <a:xfrm>
            <a:off x="228600" y="907920"/>
            <a:ext cx="8891640" cy="67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5/12/2014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2ª REUNIÃO ORDIN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iscussão das Propo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ordância da bancada dos empregadores em aprovar a totalidade das propo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ordância da bancada dos trabalhadores em aprovar apenas as seguintes propos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s acidentes de trabalho sem concessão de benefí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os acidentes de tra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030a0"/>
                </a:solidFill>
                <a:latin typeface="Arial"/>
              </a:rPr>
              <a:t>Exclusão da redução de 25% do FAP calculado na faixa </a:t>
            </a:r>
            <a:r>
              <a:rPr b="1" i="1" lang="pt-BR" sz="1800" spc="-1" strike="noStrike">
                <a:solidFill>
                  <a:srgbClr val="7030a0"/>
                </a:solidFill>
                <a:latin typeface="Arial"/>
              </a:rPr>
              <a:t>ma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952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762200" y="304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1"/>
          <p:cNvSpPr/>
          <p:nvPr/>
        </p:nvSpPr>
        <p:spPr>
          <a:xfrm>
            <a:off x="228600" y="907920"/>
            <a:ext cx="8891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5/12/2014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2ª REUNIÃO ORDIN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la ausência do consenso, decidiu-se pela não deliberação das propostas naquele mo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caminh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tomada da discussão do assunto em 2015, com definição de agenda de debates por parte das entidades representativas, de modo a submeter à votação as propostas de mudanças do FAP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té outubro de 2015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, para efeitos no cálculo em 2016 e repercussão em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SPPS/MPS encontra-se à disposição para participar de debates sobre o assunto junto às entidades interessad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7:27:14Z</dcterms:created>
  <dc:creator>Tadeu de Souza</dc:creator>
  <dc:description/>
  <dc:language>en-US</dc:language>
  <cp:lastModifiedBy>Marco Antonio Gomes Perez - MPS</cp:lastModifiedBy>
  <cp:lastPrinted>2014-11-12T18:28:13Z</cp:lastPrinted>
  <dcterms:modified xsi:type="dcterms:W3CDTF">2015-03-23T18:23:39Z</dcterms:modified>
  <cp:revision>742</cp:revision>
  <dc:subject/>
  <dc:title>Apresentação do PowerPoint</dc:title>
</cp:coreProperties>
</file>